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4E8D-FA56-4DA1-BC92-82B1F6DE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297-0C65-41CC-BCB2-FD41A4AF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68F-9810-4653-A123-02C91AD2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C4D-D4B1-4687-95FF-B70A9FE2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2D79-7930-4162-804D-CDBA45D8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596E-328E-4965-912F-310D1BBA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4D6E-0A5F-4183-916D-B542732B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6D6E-93D5-45F5-B3A5-63598D1D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B5DE-A670-4177-A058-A687E2A0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292C-BE46-484F-A1AA-E25E8CF4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5EBE-2884-4370-AE17-9FC755D1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017-C245-47A8-8C2D-202BC2C7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230A-0677-4113-B30D-9CC01AFF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92F6-3E5F-456C-B667-151522A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32EC-613D-4D27-B988-9D138E97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B49F-A32B-43C5-83DD-47A53A07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3955-C6EC-4759-B353-0A1E3A0D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0D99-5249-43EE-AB2C-93FE5A83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FF873-17E2-46F5-9711-656C3384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AF16-1050-4819-A76C-E8BC42CD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3731-85E9-46E2-B9F1-76EF0D1D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35D52-10D0-4CAB-B10B-AA19E8CA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50DA-61F6-46C3-84BE-30B10D3B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4A4E1-6374-475B-AB16-A6005A41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6BEA-46D1-4900-A8C1-2C79A973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CEF9-F386-4592-B08E-2A3D13D0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C63F-0BEC-4BED-B2DE-811C278D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2E62-1F64-405E-9FC5-72317CED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CB2AD-AA6E-4FFC-BA74-2F301871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FAEF0-9387-4CFB-B088-295041FF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3F9EA-5E69-45B0-9B4D-2C047969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8C4A-B4AA-4047-9B5A-C2E726FD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14662-F913-4ADD-BB00-6B3CAA45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521-E296-4A81-9117-2462DF46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72111-FD7A-40A2-A567-C6D2D822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0A27-C16A-46CA-9D15-3A79F405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534BB-D14B-4B51-91E9-D3E0AAA1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8C11-D8E2-4173-A418-10DB2456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398F7-F7CD-45C2-8406-1FF367B0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7AFD0-BCDC-4B91-9024-793E720B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F8C65-549B-4C41-B157-1E4BA3BC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93DD2-9345-489C-BED4-F480A1D4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7C33F-CE52-4816-809C-D22AF9DC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E0365-2BEB-4D51-8181-0CF428B4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5E4-5A87-46BD-9F61-B548AA96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7E7D3-81E6-4721-BD9B-506DF745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5BAB8-50D1-4E0E-8DEC-49CBF4F2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09E2D-C5A3-4822-B509-069A61AB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00C77-FFD3-4022-811A-F92E3AB3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E9A2E-F505-4B3F-B06E-71B80EA4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DF334-F8F6-4960-BC4C-F032C3E3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2F485-6A78-40AD-A787-B4EBC22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A932-7515-4834-9CF4-E7544A84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BB0DB-E658-424B-8B9D-439FF689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B327A-10C4-4FFA-9910-05578EDBF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62E-DC54-4A04-B274-19EDE9D8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23CAD-4011-4C24-AE87-9C652EED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BAD-0721-4564-8F16-4320D86A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FFD8-9353-4060-ACAE-E87423C0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5085-FE99-4866-9C34-8298E8A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7361-EEEC-4620-BE96-CDE9D02A95E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1D43-176A-4A7B-B4FC-9CA5C563498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CCEF-32FA-47CE-82FD-9291D782425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1CC7-672E-4768-B1E6-949C63E688D4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BD7F-A4CA-4E90-AB55-A389BAD2C820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imo.net/mission_meteor.jpg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eso-garden.com/images/uploads_bilder/leonid_meteor_shower_2.jpg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hapter 20, section 5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re are many smaller objects moving through the solar system classified as comets, asteroids, or meteoroid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261200" cy="834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218960"/>
            <a:ext cx="723888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rebuchet MS"/>
              </a:rPr>
              <a:t>Comet-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loose collections of ice, dust, and small rocky particles whose orbits are usually very long, narrow ellips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You can think of a comet as a “dirty snowball” about the size of a mountain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et’s head- the brightest part of the com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6c6c6c"/>
                </a:solidFill>
                <a:uFillTx/>
                <a:latin typeface="Trebuchet MS"/>
              </a:rPr>
              <a:t>Coma</a:t>
            </a: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- clouds of gas and dust formed around the outer layer of a comet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8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en the comet gets close enough to the sun, energy turns the ice into g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6c6c6c"/>
                </a:solidFill>
                <a:uFillTx/>
                <a:latin typeface="Trebuchet MS"/>
              </a:rPr>
              <a:t>Nucleus</a:t>
            </a: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- the solid inner core of a comet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et’s tail- as a comet heats up, some of its gas and dust stream outward forming a tai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Most comets have two tails, an ice tail and a dust tail, and usually point away from the sun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6c6c"/>
                </a:solidFill>
                <a:latin typeface="Trebuchet MS"/>
              </a:rPr>
              <a:t>Comet means “long-haired star” in Greek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SolarSys_J105_CometOrbit_sx5665b3"/>
          <p:cNvPicPr/>
          <p:nvPr/>
        </p:nvPicPr>
        <p:blipFill>
          <a:blip r:embed="rId2"/>
          <a:stretch/>
        </p:blipFill>
        <p:spPr>
          <a:xfrm>
            <a:off x="457200" y="3732120"/>
            <a:ext cx="6553080" cy="2638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SolarSys_J104_Comet_sx5664b3"/>
          <p:cNvPicPr/>
          <p:nvPr/>
        </p:nvPicPr>
        <p:blipFill>
          <a:blip r:embed="rId3"/>
          <a:stretch/>
        </p:blipFill>
        <p:spPr>
          <a:xfrm>
            <a:off x="1447920" y="304920"/>
            <a:ext cx="62769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Kuiper Bel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a doughnut shaped region that extends beyond Neptune’s orbit to about 100 times Earth’s distance from the su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Oort Cloud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spherical region of comets that surrounds the solar system out to more than 1,000 times the distance between Pluto and the su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Asteroid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rocky objects that are too small and too numerous to be considered full-fledged plane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Asteroid Bel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the region where most asteroids revolve around the sun; between Mars and Jupi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stronomers have discovered more than 100,000 asteroids and are constantly finding mor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cientists believe they are the pieces of the early solar system that never came together to form a plane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65 million years ago one or more large asteroids hit Earth and may have caused extinction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SolarSys_J106_Asteroids_sx5666a3"/>
          <p:cNvPicPr/>
          <p:nvPr/>
        </p:nvPicPr>
        <p:blipFill>
          <a:blip r:embed="rId1"/>
          <a:stretch/>
        </p:blipFill>
        <p:spPr>
          <a:xfrm>
            <a:off x="1600200" y="533520"/>
            <a:ext cx="49528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Meteoroid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a chunk of rock or dust in space; come from asteroids or come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94280" indent="-217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average a meteor strikes overhead every 10 minut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Meteor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- When a meteoroid enters Earth’s atmosphere, friction with the air creates heat and produces a streak of light in the sk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Meteorite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 a meteoroid that passes through Earth’s atmosphere and hit Earth’s surfa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94280" indent="-217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Craters on the moon were formed by meteoroid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752480"/>
            <a:ext cx="3581640" cy="2703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See full 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457200"/>
            <a:ext cx="2809800" cy="2809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http://t0.gstatic.com/images?q=tbn:W5Z0jZHQxbJ6eM:http://www.markaelrod.net/wp-content/uploads/2007/10/meteor.jpg"/>
          <p:cNvPicPr/>
          <p:nvPr/>
        </p:nvPicPr>
        <p:blipFill>
          <a:blip r:embed="rId6"/>
          <a:stretch/>
        </p:blipFill>
        <p:spPr>
          <a:xfrm>
            <a:off x="4648320" y="3429000"/>
            <a:ext cx="22860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2:23:50Z</dcterms:created>
  <dc:creator>Falcon School District 49</dc:creator>
  <dc:description/>
  <dc:language>en-US</dc:language>
  <cp:lastModifiedBy>techs</cp:lastModifiedBy>
  <dcterms:modified xsi:type="dcterms:W3CDTF">2009-09-03T16:52:05Z</dcterms:modified>
  <cp:revision>5</cp:revision>
  <dc:subject/>
  <dc:title>Slide 1</dc:title>
</cp:coreProperties>
</file>